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5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270F-8DE5-46AA-9371-9099F67614DD}" type="datetime">
              <a:rPr b="0" sz="1800" spc="-1" strike="noStrike">
                <a:solidFill>
                  <a:srgbClr val="000000"/>
                </a:solidFill>
                <a:latin typeface="Arial"/>
              </a:rPr>
              <a:t>07/31/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34FA-212C-4366-8B4E-59D2AE19BE1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380880" y="685800"/>
            <a:ext cx="6094440" cy="3429000"/>
          </a:xfrm>
          <a:prstGeom prst="rect">
            <a:avLst/>
          </a:prstGeom>
          <a:ln w="0">
            <a:noFill/>
          </a:ln>
        </p:spPr>
      </p:sp>
      <p:sp>
        <p:nvSpPr>
          <p:cNvPr id="1050"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51"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1D3B-61FD-4E74-BEC6-D9ADD379753A}"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380880" y="685800"/>
            <a:ext cx="6094440" cy="3429000"/>
          </a:xfrm>
          <a:prstGeom prst="rect">
            <a:avLst/>
          </a:prstGeom>
          <a:ln w="0">
            <a:noFill/>
          </a:ln>
        </p:spPr>
      </p:sp>
      <p:sp>
        <p:nvSpPr>
          <p:cNvPr id="1053"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54"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D25C-A44E-44A1-9A4D-8940AED34595}"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A5FD5-B0E5-4227-A7FC-F1F9EED3A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677A0-C20D-4066-99B5-7119AE502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353C08-AB74-4B8D-B67B-425F270B94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67981E-D1C9-48A5-9563-BDD112616A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16A85E-6143-49F8-A097-F83D217E56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E5480A-1AB1-4B3A-9525-03D5BEB246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C4C7C1-200E-4E45-AC6B-F9CB38CB6D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486343-DF88-42F7-8EA0-4F9E37266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398758-82FF-4855-A04A-D58C6CDE9E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F129E8-0ADF-4554-8455-F3C9C764E7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C50809-B7CE-4D1B-8CEB-645419AC66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43DA7A-7FE8-408D-B8A0-1891B66EB4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7744A-FB82-423E-926A-F5F534CE2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D82EAE-E785-4041-9906-810D84BA36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B1F8F1-3FBD-46DF-A7AF-BA54A8828D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A0ADDF-1DF2-43AA-9436-74A8F2197C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4B3EE1-8D1A-47A5-9878-CA08895D43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5225AD-252F-4D6A-BF74-DABBB07D58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010333-44D6-4BF3-94AC-D3C211536A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F60872-CF1F-47B2-A544-1CDD24ED50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552782-1782-4BB0-9006-8A9DCAE887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98B644-266B-4763-ABB5-1EA27E1C46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89FA94-F6C0-4C61-8709-7C526F8EF0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0D846-4391-4F02-89F6-4926357C2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227130-9766-4CC7-A15B-BE0F1EACD0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D6BD56-7314-4BD6-A257-EEDA1B4E6C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9C9CB6-7CF6-4447-B913-21D3B30CCC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34F144-E460-4ACD-853D-819A20496E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AAB01F-4750-4676-B3B4-C15B3304C8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CE24C9-E584-4176-8802-F2A3E6FEDC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0570EA-4F97-47CE-8259-90622583AB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568D50-FC67-490B-B065-8E949B4387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DA964E-A05D-4251-BF51-4892C21EFC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E4D399-4D3D-459D-AD18-2F332335E4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A387A-D35A-44DD-9D17-7AE70867D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68071A-CFAD-4A52-A675-0F1C01B5A5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96ECFB-D24E-401D-B0B1-193114B77C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6FC28F1-DDB8-451D-A2FC-865E1430C57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C32F62-B28D-448E-8916-26EDD1CA44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52B176-8A17-416F-94C1-D09FF59AE7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3FFACE-B862-4E65-8229-B43F0D7346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17F0FC-F6CA-4CB9-8A41-7B679D42DC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702B7D-0EC0-41A6-96BF-9540FD6032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7FDD47-AAED-4C2E-92E3-802DF66D72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06C4C6-AEDC-4133-8224-8BCD3304F1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B656B-F5B9-425E-BF11-836D54EC9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2A2459-9958-4D89-B91F-CDEB9D5106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BB7E47-D9EE-47ED-A50D-8EEE918AB3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A6812E-54CE-4EC7-8B83-4BEFFF41E6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DAE144-56D5-4BF7-96E5-591597F8D7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93CDB6-49E6-4A4D-A06B-4C0B5E2C52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07A2791-2464-425D-B95A-3BA7A371759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19432E-E867-4E62-94C8-7BE8B34222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99379B-1BCF-416C-AB0C-6D4E9A2FC2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A2358C-BC4D-4FD0-8A50-A8A8D99BE6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A17F15-4318-4FD4-85A4-B21C4D9C87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41311-3EEB-4901-888E-C4CC32EF3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474DD9-E176-4FE7-9F35-7793BD8235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27491C-7D22-479B-9F44-406F9CA49D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F5CA7D-D099-48E3-8467-B69A172433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54A4A9-0B79-4352-A357-2E0FD8B245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4D348F-E96B-4FCF-998D-0E32DA5C85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4DA9C89-F0D4-4E6D-92C9-E4534DD1A2F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D1A2165-810B-4AF2-8E1B-60919393054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106FE88-7D62-4C96-9534-6B630597A46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93D9E7-8457-4206-B4C8-222AEEC125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8726F0-6D49-4636-B1DF-CB84E5CF9C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DE226-31C6-4AAC-A716-502CD677D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CA190B-6DEB-4D66-BAC5-D02133692A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8DAB05-25B0-4A60-8AD1-28BB5D62A9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C11BE0E-401D-4213-803F-92F664708F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369ACB-3E8F-4B5B-B72E-C6098D3089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1F84C2-2127-41CD-A310-0049A0183F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200D31-7A2D-4B1F-91C5-46941BB0F9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1067F59-50D4-4042-8127-78D94E2129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DF9197-0EDA-4370-8F22-626D1CCFADC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98913C1-9F16-40EE-A612-45550D394A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4F30CCA-6F76-479F-9C57-04672F826F4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46E31-8308-48B6-B09E-835588129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37D4389-8A29-4F08-A0EE-DBEB66849FE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916C5D-30C5-45C7-AB2E-B24098F663B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A37FEE2-B189-4231-A5CC-05BC49C397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F027D3-93D2-47E0-8309-09DFFB52421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FCDF05-64C9-42C2-A6F3-26A94F3830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4E9BF84-35FC-467A-9AD9-333E4CA5EB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3EEDCA-3FCD-44BA-BCA6-A9B23E000B1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CCD869-26AE-44F9-88F0-BC899DFD8B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024243-9A52-485E-963D-66AF816E07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641AFFB-837A-4B02-9170-24A427C8AE5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3971B-EB2A-4519-9B8C-DC20B31E1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ED8EF0B-AA5B-4C1D-9929-880C5E687BC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0D06D6E-7BF1-4CCB-99E0-86F177A1B73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CD75E7-2821-4A71-BF4A-0F85AD0C308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87B86B-70F9-42C9-A1B6-2DF12A30B0D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847430A-63C3-4B59-A335-5B3A7F8B8F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1AE9E75-5165-474A-96C1-EF5D1CEEA92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EF9D6A-26AA-49E7-90E7-6C529CE4AEE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0C5BDA-2509-421A-A977-B99F3B887A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FAE622-C40D-4AF7-89A2-A094F5036C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4BB758-BB27-489D-BD71-DE8A9AE63B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9A8C0-0F05-4AED-BF63-B05DBC82C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067A0E-9CD9-4F83-9315-30C321B621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FA06F4E-E068-4931-952E-2F6841C7B4B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0D73D69-6A16-4C26-8B96-25671FC8956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CA05B69-38A4-426A-B247-5101F6E8A9F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D17F01A-45A1-4A87-8CE2-5E1A1A2EA62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D7FCC2A-A5AB-4E7B-8FFF-E5B27D9C475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685673A-A418-4E3F-B7B7-9DC9048FAF9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7EF95CB-12B0-4491-9E3A-A31DD1A86A2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D9456AC-A2F6-444E-8299-398C07017FD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4B47CD-A58B-4419-B892-1E707DD87B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C2A33-4997-4F61-8F77-A28F5731C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4EEFD-2C5D-4F53-876A-47D4B4CC8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B892D5-D590-4C6F-8E4A-6DC3BCE33A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4F34958-FAAB-4335-B50C-FEB0859072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0E1405-02BE-4D84-8DDC-41583FE0E2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4B38C5E-2E80-40F3-9C4B-CD15CCE35FB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C332098-9DF4-4EE9-AA98-B5B9B0C6A3F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E2E4AC7-5D95-447F-9D1F-17B3D54968D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DAEE844-8665-451C-BC2F-050D42A9963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48AD7C2-BC77-411F-9C20-7AC85EE23AC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EAF31D7-A571-4CE4-A823-E55231143F7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011A15F-BE22-4AB1-8E03-1AD8B90E6B4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512C4-1AEC-49EE-907D-D780065F8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9D54A0-A7B2-48C2-B0A8-E10AC783BFA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714C45-B743-4042-A972-E3730F3EB2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51BCB51-B1B6-4BC1-8413-8785915335D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2F7A57F-6DA6-4555-B55D-E5A9628A9F5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CFC5EB-3248-455C-BB28-AB86085E719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F8B5E4B-97AA-4262-9C47-F24A49286CD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CC58E06-D254-4974-B6EB-2582D11412A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09CDCF2-15ED-45E4-8AAF-58182243B3E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8A9A4F1-A5F2-4EC7-979F-D71DE416C4A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D7AEF04-B98C-45CE-BA16-2AD51041F37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7C17C-C758-4212-B3AC-FA8444D71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2B29073-6823-4D16-A435-27F89A9B62D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2BE1C69-059E-4E83-B21E-A2BA66CFD5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FF906F1-5BA7-46FF-8DE7-3A851DAD27C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F3A40A-CC4B-42B5-9E84-EC4FDCAA1F0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E3EDE1E-BE12-4A02-A814-188D7F26C70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F6EDB5-ECE7-4423-855D-AC093868010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EFC533E-6148-4900-B58A-45E29064BCE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90A769E-5C05-45E6-987D-1066C90BAFD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E121DA5-39A7-4903-91D4-EE50FC55631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A341789-C035-4921-A2A6-9DF67FCA69B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E4C96-95FB-4772-99FF-ACFCEE870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15B0EC7-94FA-414C-BCC4-C01553EE159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A8337D4-D19C-47F3-AD47-FAB00E96DDE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0465856-00BA-44B7-940E-9A036067014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BF92F3C-274F-4AB6-B5FC-23AFA0E5692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5A4016D-1F21-4F8B-820D-51CBE9C48C7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123BE7-A8E3-4C52-B22B-30754473D02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2EEDCA-A0A6-4B8B-A519-5328A8EC62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352E1CD-AF5C-4C15-A10A-DC6F52B1F9B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B1D297F-B8EA-4D90-BCCC-CC93363B644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31C8729-956D-438C-8745-626B6CEF7F8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12CB1-2BFA-4B66-918D-006F0CE15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8E573D7-F202-4E60-9AD5-F0A81218AAD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8A4A1D-A2A3-49A1-8666-F99E51FC57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57EB5B-BC00-4B74-A72E-330ACFFFE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1A634-494F-4248-89DA-99998748D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6EC11-CAF8-442D-9267-0AEE61BD49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6ECC0-674D-4185-B146-F23167BC0B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BE5C1-58E8-4960-989D-4A6A6842B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2AE156-4CE8-46EB-BB42-46CE1E0DB1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37A0AE-48E8-443E-BF2C-218D2755B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BFE86-68A4-429D-9185-501432B25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3F0B02-21EB-4ABB-B8CC-1882DE9F2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398373-9E75-4BA3-97AF-840DCE25E2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FCDAF8-94A6-4BE6-8E01-5F420A1C55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CDAF3A-15B4-4DE7-B50A-D11B61DB60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C8DBE9-F225-4D39-9D17-A2D4C9A7A9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A0C839-7A92-46F5-B5D1-9F3E73AC4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87AB1-554D-481C-A93B-8EC4185D45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09A48-4E86-491D-BB36-B6CFD20E2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16581-05EC-4D1B-841A-A4BF89359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46A719-68FB-4C47-82A6-3043E00A32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AB043C-0C47-45E2-9E1B-8B94EE4DC9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34B70-B3B9-41D2-948E-103555DE6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75DD5-8954-430B-BB29-31FA16FD2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E161D-E74F-43E9-A679-C5BE358ED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1D122-AAC3-4158-8E3B-81DBAF174E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AF0A77-8063-4718-A515-D8864AF193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A301A-49EF-4393-A508-8726E71CED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27B3A0-6D73-4C6F-89B7-436E43CDB0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B9CB9-7232-4DE1-9D4F-C3845ECAB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1391C1-3AAF-4F00-92E6-B20F048720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BEF37D-487D-4F8F-A5DD-242A50C88B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3291F8-64FB-49B0-A5C9-E68819191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058B80-D4FE-4333-9337-7B3396BE6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496F51-8CC7-43F7-9D9B-6E9F24601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08AAE-F0F9-4D28-A95E-8160D78A9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99E55-91A2-4C4D-ABCF-D21394A46E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AD8073-9EAE-4FC9-8395-24565A962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3A43AD-5914-45FA-9102-F39E7127B8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46EA69-BBD6-42EF-857A-F71335656C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AFAF7-3CE1-4A86-AFEE-671833BCF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2535BC-B255-40C3-8CE5-265C215AF2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2BF361-0AC7-462B-8E4D-5E61ECE18C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56B67D-D475-41E5-9F02-F1F79677C9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515CC6-FD9D-42A3-BAFC-43D07ADC62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EC1D79-E29C-4216-B701-47C9E9023F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18C372-596E-42AA-BFC7-FF34BBC55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3CF83-2F2E-48F7-8FCF-0D17A8EF2E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C6739A-2D75-4CED-BB3B-E024EFA7BE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DADC8-18D8-494D-A43C-54C48DE85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A39941-409F-4E35-B819-B21890007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13BA7-5559-4F47-9F1F-7411910E7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B431DF-69BF-440F-A667-204AEC0A66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F0D478-E6E8-4929-B0DF-E0B8BCD678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3687EC-69AE-4E6C-986D-7F47139384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D5948A-2896-4A75-B7C5-D2CA0EC5F9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E57576-E3C0-4EAF-9780-F258C7963B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922ECE-C5D2-42AA-8E2F-29CCBBBDE9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CD00A3-90DE-4092-9001-A21BF2837D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7AE7BE-599B-4190-9D53-CA8E0C896A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8114C3-4318-469D-8515-EAFEFBCB9B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B07EFC-2F25-48F9-801B-6EE4D593F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5781-8D63-4A0D-AF93-47BB4A90F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B0A75-50C9-4DEF-AC36-AFEF89585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FACB01-804F-4C6F-8A00-72B8A405CF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DB7B3F-4F7B-4ACC-93EF-292E40EE16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E32944-10C0-44F5-A086-2CFE1025AB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DC0E42-7968-45AB-B5AA-3EBDB77F44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6C8E94-8D20-4BB5-BA99-D70122489F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1D2681-AC7C-44E7-B7B5-5634FA9F58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705760-5EB0-438B-8339-7FDA86B659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4549E8-7B73-49B7-906F-E5EF11E6A8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5C1D16-6B17-4EAF-AF12-3601E85B7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5496D-89DD-48B0-BC41-DF8B0E7F5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C7FCFB-6DD2-4FD6-AD98-8A52AE4DDA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B8439F-B326-4332-857F-1C685034D4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63A9C4-B3F8-4531-BE41-53749374C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1CC02-1B80-4CDE-8671-1127E92253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52B1D6-D25F-4786-AA6C-24FCA615F1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E957C3-4BA5-4617-BF6C-963D8E869F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AD1B1B-168E-4EF7-8441-E9A6333895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083799-6F2A-4693-A048-2B7CC64BF6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D25110-F5DE-4C2E-9706-D40F845136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82ABE2-FF6D-4EFC-A25A-0523D91C13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9156-F71B-4EA2-83AC-EDC60CC21587}" type="datetime">
              <a:rPr b="0" sz="900" spc="-1" strike="noStrike">
                <a:solidFill>
                  <a:srgbClr val="898989"/>
                </a:solidFill>
                <a:latin typeface="Calibri"/>
                <a:ea typeface="Calibri"/>
              </a:rPr>
              <a:t>07/31/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C6E9-6100-4A89-BFE5-62C156929C42}"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A6C6-32D5-4D10-A76A-A46AEAA13D69}"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2965-AD7E-4E04-9527-8B2ECFA978B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FFB0-112F-42DD-B685-49A35D0105E2}"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A70C-0ECA-463E-93D1-CBFF6B145C6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9B3F-5BAB-433C-97E8-99A443203BBF}"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5E1B-123C-4657-A458-DEE98912C672}"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CD71-A808-4DE6-80A6-1B3184574735}"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B11B-3A91-49FC-8A12-7E00140FE915}"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6AF1-F777-43DF-974B-0E158FE3F469}"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5368-62F5-4D60-9C79-459643A06CBE}"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36B6-5740-4924-9575-7FBA42805A8D}"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BCCF-889C-4BC0-8340-2869C7CB430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CF6B-641D-4321-AF80-D3934A8AFB4E}"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71E5-CFF9-4240-BB10-BAFA2CFC16C5}"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25F0-349A-4CBB-A554-BC60C2C05046}"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D584-E7B5-4020-91EC-00464526FCE9}"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9CC3-201E-4E22-A8D6-9831B9F509A3}"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9365-C08D-41D5-BFB4-05036674F68A}"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3308-F811-4861-A91D-23BE765619D5}"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E267-0B1E-4776-A6F2-C83FD26116E7}"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86BF-491C-4B69-88D9-58DE79DF678D}"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2C22-953C-4849-98CC-D51287A7AE5A}"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8C05-70AB-44FC-AE3B-AE3BA4D2CBFE}"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8DB4-4278-4B91-9531-67D9073742C7}"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F1E7-4DB2-4612-A2A2-A58E6649A873}"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28BF-5425-49DE-96CF-B24D619DA03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F619-3E41-45CE-99B4-D547CDDDB177}" type="datetime">
              <a:rPr b="0" sz="900" spc="-1" strike="noStrike">
                <a:solidFill>
                  <a:srgbClr val="898989"/>
                </a:solidFill>
                <a:latin typeface="微软雅黑"/>
                <a:ea typeface="微软雅黑"/>
              </a:rPr>
              <a:t>07/31/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AF7F-2432-481F-AC1E-41CEAF0F1227}"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A45A-35D0-4A95-A263-21DF9392F000}"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38E7-0B0E-4A19-A38B-CFC78550135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6DE8-DD05-4772-8C47-1936318D3DDE}"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6B32-119B-433D-8099-E8A48985F47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2DA5-69F2-4D5C-BF51-462A6D6EE489}"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5F42-C925-4A3C-A59F-E497DB94798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5937-5AD1-41D5-AB28-E52E1BE2682A}"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7F02-CD9A-4171-864A-0F02F375B3D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2FC4-8FE7-4A7D-B0DE-E16E872C39B3}"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B61B-7B95-46BD-A83A-D10F6D40B35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16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9"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合并方的资本公积（资本溢价或股本溢价）余额不足，被合并方在合并前实现的留存收益在合并资产负债表中未予全额恢复的，合并方应当在会计报表附注中对这一情况进行说明。</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同一控制下合并日的合并资产负债表的编制</a:t>
            </a:r>
            <a:endParaRPr b="0" lang="en-US" sz="2000" spc="-1" strike="noStrike">
              <a:solidFill>
                <a:srgbClr val="262626"/>
              </a:solidFill>
              <a:latin typeface="Arial"/>
            </a:endParaRPr>
          </a:p>
          <a:p>
            <a:pPr>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母公司拥有子公司全部股权</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1</a:t>
            </a:r>
            <a:r>
              <a:rPr b="0" lang="en-US" sz="1200" spc="-1" strike="noStrike">
                <a:solidFill>
                  <a:srgbClr val="000000"/>
                </a:solidFill>
                <a:latin typeface="Arial"/>
              </a:rPr>
              <a:t>】 </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是同一母公司下的两家子公司。</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合并前两家公司的资产负债表如表</a:t>
            </a:r>
            <a:r>
              <a:rPr b="0" lang="en-US" sz="1200" spc="-1" strike="noStrike">
                <a:solidFill>
                  <a:srgbClr val="000000"/>
                </a:solidFill>
                <a:latin typeface="Arial"/>
              </a:rPr>
              <a:t>5-1</a:t>
            </a:r>
            <a:r>
              <a:rPr b="0" lang="zh-CN" sz="1200" spc="-1" strike="noStrike">
                <a:solidFill>
                  <a:srgbClr val="000000"/>
                </a:solidFill>
                <a:latin typeface="Arial"/>
              </a:rPr>
              <a:t>所示：</a:t>
            </a:r>
            <a:endParaRPr b="0" lang="en-US" sz="1200" spc="-1" strike="noStrike">
              <a:solidFill>
                <a:srgbClr val="262626"/>
              </a:solidFill>
              <a:latin typeface="Arial"/>
            </a:endParaRPr>
          </a:p>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表</a:t>
            </a:r>
            <a:r>
              <a:rPr b="0" lang="en-US" sz="1200" spc="-1" strike="noStrike">
                <a:solidFill>
                  <a:srgbClr val="000000"/>
                </a:solidFill>
                <a:latin typeface="Arial"/>
              </a:rPr>
              <a:t>5-1          P</a:t>
            </a:r>
            <a:r>
              <a:rPr b="0" lang="zh-CN" sz="1200" spc="-1" strike="noStrike">
                <a:solidFill>
                  <a:srgbClr val="000000"/>
                </a:solidFill>
                <a:latin typeface="Arial"/>
              </a:rPr>
              <a:t>公司与</a:t>
            </a:r>
            <a:r>
              <a:rPr b="0" lang="en-US" sz="1200" spc="-1" strike="noStrike">
                <a:solidFill>
                  <a:srgbClr val="000000"/>
                </a:solidFill>
                <a:latin typeface="Arial"/>
              </a:rPr>
              <a:t>S</a:t>
            </a:r>
            <a:r>
              <a:rPr b="0" lang="zh-CN" sz="1200" spc="-1" strike="noStrike">
                <a:solidFill>
                  <a:srgbClr val="000000"/>
                </a:solidFill>
                <a:latin typeface="Arial"/>
              </a:rPr>
              <a:t>公司合并前资产负债表             </a:t>
            </a:r>
            <a:endParaRPr b="0" lang="en-US" sz="1200" spc="-1" strike="noStrike">
              <a:solidFill>
                <a:srgbClr val="262626"/>
              </a:solidFill>
              <a:latin typeface="Arial"/>
            </a:endParaRPr>
          </a:p>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                     单位：元</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0" name=""/>
          <p:cNvGraphicFramePr/>
          <p:nvPr/>
        </p:nvGraphicFramePr>
        <p:xfrm>
          <a:off x="1719360" y="1060560"/>
          <a:ext cx="5710320" cy="3779640"/>
        </p:xfrm>
        <a:graphic>
          <a:graphicData uri="http://schemas.openxmlformats.org/drawingml/2006/table">
            <a:tbl>
              <a:tblPr/>
              <a:tblGrid>
                <a:gridCol w="1903320"/>
                <a:gridCol w="1903320"/>
                <a:gridCol w="1903680"/>
              </a:tblGrid>
              <a:tr h="252360">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2 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2 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5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3"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的全部股权，则：</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24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624 0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将母公司的长期股权投资与子公司的所有者权益相抵消，应在合并会计报表工作底稿上编制如下抵销分录：</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24 000</a:t>
            </a:r>
            <a:endParaRPr b="0" lang="en-US" sz="1200" spc="-1" strike="noStrike">
              <a:solidFill>
                <a:srgbClr val="262626"/>
              </a:solidFill>
              <a:latin typeface="Arial"/>
            </a:endParaRPr>
          </a:p>
          <a:p>
            <a:pPr marL="157320" indent="-15732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恢复子公司留存收益中属于母公司的份额：</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84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6 000 </a:t>
            </a:r>
            <a:endParaRPr b="0" lang="en-US" sz="1200" spc="-1" strike="noStrike">
              <a:solidFill>
                <a:srgbClr val="26262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7"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报表工作底稿如表</a:t>
            </a:r>
            <a:r>
              <a:rPr b="0" lang="en-US" sz="1200" spc="-1" strike="noStrike">
                <a:solidFill>
                  <a:srgbClr val="000000"/>
                </a:solidFill>
                <a:latin typeface="Arial"/>
              </a:rPr>
              <a:t>5-2</a:t>
            </a:r>
            <a:r>
              <a:rPr b="0" lang="zh-CN" sz="1200" spc="-1" strike="noStrike">
                <a:solidFill>
                  <a:srgbClr val="000000"/>
                </a:solidFill>
                <a:latin typeface="Arial"/>
              </a:rPr>
              <a:t>所示：</a:t>
            </a:r>
            <a:endParaRPr b="0" lang="en-US" sz="1200" spc="-1" strike="noStrike">
              <a:solidFill>
                <a:srgbClr val="262626"/>
              </a:solidFill>
              <a:latin typeface="Arial"/>
            </a:endParaRPr>
          </a:p>
        </p:txBody>
      </p:sp>
      <p:graphicFrame>
        <p:nvGraphicFramePr>
          <p:cNvPr id="958" name=""/>
          <p:cNvGraphicFramePr/>
          <p:nvPr/>
        </p:nvGraphicFramePr>
        <p:xfrm>
          <a:off x="755640" y="2066760"/>
          <a:ext cx="7704000" cy="2719440"/>
        </p:xfrm>
        <a:graphic>
          <a:graphicData uri="http://schemas.openxmlformats.org/drawingml/2006/table">
            <a:tbl>
              <a:tblPr/>
              <a:tblGrid>
                <a:gridCol w="2279520"/>
                <a:gridCol w="1133640"/>
                <a:gridCol w="1133280"/>
                <a:gridCol w="1052640"/>
                <a:gridCol w="1052640"/>
                <a:gridCol w="1052280"/>
              </a:tblGrid>
              <a:tr h="284400">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51480" marR="51480">
                    <a:lnL>
                      <a:noFill/>
                    </a:lnL>
                    <a:lnR w="5760">
                      <a:solidFill>
                        <a:srgbClr val="000000"/>
                      </a:solidFill>
                    </a:lnR>
                    <a:lnT w="5760">
                      <a:solidFill>
                        <a:srgbClr val="000000"/>
                      </a:solidFill>
                    </a:lnT>
                    <a:lnB w="5760">
                      <a:solidFill>
                        <a:srgbClr val="000000"/>
                      </a:solidFill>
                    </a:lnB>
                    <a:no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抵消分录</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并资产负债表</a:t>
                      </a:r>
                      <a:endParaRPr b="0" lang="en-US" sz="1200" spc="-1" strike="noStrike">
                        <a:solidFill>
                          <a:srgbClr val="000000"/>
                        </a:solidFill>
                        <a:latin typeface="Arial"/>
                      </a:endParaRPr>
                    </a:p>
                  </a:txBody>
                  <a:tcPr anchor="ctr" marL="51480" marR="51480">
                    <a:lnL w="5760">
                      <a:solidFill>
                        <a:srgbClr val="000000"/>
                      </a:solidFill>
                    </a:lnL>
                    <a:lnR>
                      <a:noFill/>
                    </a:lnR>
                    <a:lnT w="5760">
                      <a:solidFill>
                        <a:srgbClr val="000000"/>
                      </a:solidFill>
                    </a:lnT>
                    <a:lnB w="5760">
                      <a:solidFill>
                        <a:srgbClr val="000000"/>
                      </a:solidFill>
                    </a:lnB>
                    <a:noFill/>
                  </a:tcPr>
                </a:tc>
              </a:tr>
              <a:tr h="3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3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92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0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4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9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4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0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9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pic>
        <p:nvPicPr>
          <p:cNvPr id="959" name="图片 2" descr=""/>
          <p:cNvPicPr/>
          <p:nvPr/>
        </p:nvPicPr>
        <p:blipFill>
          <a:blip r:embed="rId1"/>
          <a:stretch/>
        </p:blipFill>
        <p:spPr>
          <a:xfrm>
            <a:off x="828720" y="1314360"/>
            <a:ext cx="7415280" cy="752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0" name=""/>
          <p:cNvGraphicFramePr/>
          <p:nvPr/>
        </p:nvGraphicFramePr>
        <p:xfrm>
          <a:off x="900000" y="1168560"/>
          <a:ext cx="7417080" cy="3294000"/>
        </p:xfrm>
        <a:graphic>
          <a:graphicData uri="http://schemas.openxmlformats.org/drawingml/2006/table">
            <a:tbl>
              <a:tblPr/>
              <a:tblGrid>
                <a:gridCol w="2194200"/>
                <a:gridCol w="1090440"/>
                <a:gridCol w="1092240"/>
                <a:gridCol w="1012680"/>
                <a:gridCol w="1014480"/>
                <a:gridCol w="1013040"/>
              </a:tblGrid>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4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06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10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08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47808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0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9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6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母公司拥有子公司部分股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2</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1</a:t>
            </a:r>
            <a:r>
              <a:rPr b="0" lang="en-US" sz="1200" spc="-1" strike="noStrike">
                <a:solidFill>
                  <a:srgbClr val="000000"/>
                </a:solidFill>
                <a:latin typeface="Arial"/>
              </a:rPr>
              <a:t>】</a:t>
            </a:r>
            <a:r>
              <a:rPr b="0" lang="zh-CN" sz="1200" spc="-1" strike="noStrike">
                <a:solidFill>
                  <a:srgbClr val="000000"/>
                </a:solidFill>
                <a:latin typeface="Arial"/>
              </a:rPr>
              <a:t>，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41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将母公司的长期股权投资与子公司的所有者权益相抵销，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8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恢复子公司留存收益中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pic>
        <p:nvPicPr>
          <p:cNvPr id="970" name="图片 1" descr=""/>
          <p:cNvPicPr/>
          <p:nvPr/>
        </p:nvPicPr>
        <p:blipFill>
          <a:blip r:embed="rId1"/>
          <a:stretch/>
        </p:blipFill>
        <p:spPr>
          <a:xfrm>
            <a:off x="1763640" y="831960"/>
            <a:ext cx="5205600" cy="3968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654120" y="1131840"/>
            <a:ext cx="7835760" cy="178920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五章  购并日合并财务报表的编制</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7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同一控制下合并日的合并利润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利润表应当包括参与合并各方自合并当期期初至合并日所发生的收入、费用和利润。被合并方在合并前实现的净利润，应当在合并利润表中单列项目反映（即在“净利润”项目下单列“其中：被合并方在合并前实现的净利润”项目。）</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同一控制下合并日的合并现金流量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编制同一控制下合并日的合并现金流量表时，如果不涉及合并双方当期发生内部交易产生的现金流量，只需要将合并双方的对应项目金额直接相加即可，和合并日的合并利润表的编制是一样的；如果涉及合并双方当期发生内部交易产生的现金流量，应按照合并财务报表准则规定的有关原则进行抵销。</a:t>
            </a: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7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投资成本等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3</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1</a:t>
            </a:r>
            <a:r>
              <a:rPr b="0" lang="zh-CN" sz="1200" spc="-1" strike="noStrike">
                <a:solidFill>
                  <a:srgbClr val="000000"/>
                </a:solidFill>
                <a:latin typeface="Arial"/>
              </a:rPr>
              <a:t>所示，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3.708</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a:t>
            </a:r>
            <a:r>
              <a:rPr b="0" lang="en-US" sz="1200" spc="-1" strike="noStrike">
                <a:solidFill>
                  <a:srgbClr val="000000"/>
                </a:solidFill>
                <a:latin typeface="Arial"/>
              </a:rPr>
              <a:t>S</a:t>
            </a:r>
            <a:r>
              <a:rPr b="0" lang="zh-CN" sz="1200" spc="-1" strike="noStrike">
                <a:solidFill>
                  <a:srgbClr val="000000"/>
                </a:solidFill>
                <a:latin typeface="Arial"/>
              </a:rPr>
              <a:t>公司各项资产与负债的账面价值和公允价值相同，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41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
        <p:nvSpPr>
          <p:cNvPr id="97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 </a:t>
            </a:r>
            <a:r>
              <a:rPr b="0" lang="zh-CN" sz="1200" spc="-1" strike="noStrike">
                <a:solidFill>
                  <a:srgbClr val="000000"/>
                </a:solidFill>
                <a:latin typeface="Arial"/>
              </a:rPr>
              <a:t>将母公司的长期股权投资与子公司的所有者权益相抵销，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78" name="图片 8" descr=""/>
          <p:cNvPicPr/>
          <p:nvPr/>
        </p:nvPicPr>
        <p:blipFill>
          <a:blip r:embed="rId1"/>
          <a:srcRect l="0" t="13006" r="0" b="0"/>
          <a:stretch/>
        </p:blipFill>
        <p:spPr>
          <a:xfrm>
            <a:off x="928800" y="1419120"/>
            <a:ext cx="7191360" cy="3381480"/>
          </a:xfrm>
          <a:prstGeom prst="rect">
            <a:avLst/>
          </a:prstGeom>
          <a:ln w="0">
            <a:noFill/>
          </a:ln>
        </p:spPr>
      </p:pic>
      <p:pic>
        <p:nvPicPr>
          <p:cNvPr id="979" name="图片 2" descr=""/>
          <p:cNvPicPr/>
          <p:nvPr/>
        </p:nvPicPr>
        <p:blipFill>
          <a:blip r:embed="rId2"/>
          <a:stretch/>
        </p:blipFill>
        <p:spPr>
          <a:xfrm>
            <a:off x="1044720" y="771480"/>
            <a:ext cx="7019640" cy="706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1" name="图片 8" descr=""/>
          <p:cNvPicPr/>
          <p:nvPr/>
        </p:nvPicPr>
        <p:blipFill>
          <a:blip r:embed="rId1"/>
          <a:stretch/>
        </p:blipFill>
        <p:spPr>
          <a:xfrm>
            <a:off x="1052640" y="1352520"/>
            <a:ext cx="7038720" cy="2438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投资成本大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4</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5</a:t>
            </a:r>
            <a:r>
              <a:rPr b="0" lang="zh-CN" sz="1200" spc="-1" strike="noStrike">
                <a:solidFill>
                  <a:srgbClr val="000000"/>
                </a:solidFill>
                <a:latin typeface="Arial"/>
              </a:rPr>
              <a:t>所示，</a:t>
            </a:r>
            <a:endParaRPr b="0" lang="en-US" sz="1200" spc="-1" strike="noStrike">
              <a:solidFill>
                <a:srgbClr val="262626"/>
              </a:solidFill>
              <a:latin typeface="Arial"/>
            </a:endParaRPr>
          </a:p>
        </p:txBody>
      </p:sp>
      <p:sp>
        <p:nvSpPr>
          <p:cNvPr id="983"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4" name="图片 9" descr=""/>
          <p:cNvPicPr/>
          <p:nvPr/>
        </p:nvPicPr>
        <p:blipFill>
          <a:blip r:embed="rId1"/>
          <a:srcRect l="0" t="17180" r="0" b="0"/>
          <a:stretch/>
        </p:blipFill>
        <p:spPr>
          <a:xfrm>
            <a:off x="1041480" y="2571840"/>
            <a:ext cx="7057800" cy="2082600"/>
          </a:xfrm>
          <a:prstGeom prst="rect">
            <a:avLst/>
          </a:prstGeom>
          <a:ln w="0">
            <a:noFill/>
          </a:ln>
        </p:spPr>
      </p:pic>
      <p:pic>
        <p:nvPicPr>
          <p:cNvPr id="985" name="图片 2" descr=""/>
          <p:cNvPicPr/>
          <p:nvPr/>
        </p:nvPicPr>
        <p:blipFill>
          <a:blip r:embed="rId2"/>
          <a:stretch/>
        </p:blipFill>
        <p:spPr>
          <a:xfrm>
            <a:off x="1413000" y="2112840"/>
            <a:ext cx="6315120" cy="42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87"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8" name="图片 8" descr=""/>
          <p:cNvPicPr/>
          <p:nvPr/>
        </p:nvPicPr>
        <p:blipFill>
          <a:blip r:embed="rId1"/>
          <a:stretch/>
        </p:blipFill>
        <p:spPr>
          <a:xfrm>
            <a:off x="1050840" y="885960"/>
            <a:ext cx="7039080" cy="3867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4.5</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700 000</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合并工作底稿上，应将子公司高估或低估的资产、负债项目调整至公允价值，因此本例的工作底稿上应有如下一笔调整分录，一笔抵消分录。</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调整分录：</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0" name="PlaceHolder 1"/>
          <p:cNvSpPr>
            <a:spLocks noGrp="1"/>
          </p:cNvSpPr>
          <p:nvPr>
            <p:ph type="title"/>
          </p:nvPr>
        </p:nvSpPr>
        <p:spPr>
          <a:xfrm>
            <a:off x="960120" y="343080"/>
            <a:ext cx="742788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960120" y="1131840"/>
            <a:ext cx="7219800" cy="3075120"/>
          </a:xfrm>
          <a:prstGeom prst="rect">
            <a:avLst/>
          </a:prstGeom>
          <a:noFill/>
          <a:ln w="0">
            <a:noFill/>
          </a:ln>
        </p:spPr>
        <p:txBody>
          <a:bodyPr lIns="101520" rIns="82440" tIns="0" bIns="0" anchor="t">
            <a:normAutofit fontScale="92000"/>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抵消分录：</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96 4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中：少数股东权益＝</a:t>
            </a:r>
            <a:r>
              <a:rPr b="0" lang="en-US" sz="1200" spc="-1" strike="noStrike">
                <a:solidFill>
                  <a:srgbClr val="000000"/>
                </a:solidFill>
                <a:latin typeface="Arial"/>
              </a:rPr>
              <a:t>S</a:t>
            </a:r>
            <a:r>
              <a:rPr b="0" lang="zh-CN" sz="1200" spc="-1" strike="noStrike">
                <a:solidFill>
                  <a:srgbClr val="000000"/>
                </a:solidFill>
                <a:latin typeface="Arial"/>
              </a:rPr>
              <a:t>公司可辨认净资产的公允价值</a:t>
            </a:r>
            <a:r>
              <a:rPr b="0" lang="en-US" sz="1200" spc="-1" strike="noStrike">
                <a:solidFill>
                  <a:srgbClr val="000000"/>
                </a:solidFill>
                <a:latin typeface="Arial"/>
              </a:rPr>
              <a:t>×</a:t>
            </a:r>
            <a:r>
              <a:rPr b="0" lang="zh-CN" sz="1200" spc="-1" strike="noStrike">
                <a:solidFill>
                  <a:srgbClr val="000000"/>
                </a:solidFill>
                <a:latin typeface="Arial"/>
              </a:rPr>
              <a:t>少数股东权益持股比例＝</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96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商誉＝企业合并成本－合并中取得的被购买方可辨认净资产公允价值份额＝</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a:t>
            </a:r>
            <a:r>
              <a:rPr b="0" lang="en-US" sz="1200" spc="-1" strike="noStrike">
                <a:solidFill>
                  <a:srgbClr val="000000"/>
                </a:solidFill>
                <a:latin typeface="Arial"/>
              </a:rPr>
              <a:t>3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报表工作底稿如表</a:t>
            </a:r>
            <a:r>
              <a:rPr b="0" lang="en-US" sz="1200" spc="-1" strike="noStrike">
                <a:solidFill>
                  <a:srgbClr val="000000"/>
                </a:solidFill>
                <a:latin typeface="Arial"/>
              </a:rPr>
              <a:t>5-6</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359240" y="1185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421160" y="119700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5076720" y="1263600"/>
            <a:ext cx="3527640" cy="37476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购并日合并财务报表概述</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359240" y="2116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421160" y="212724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5076720" y="2190600"/>
            <a:ext cx="336888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同一控制下购并日的合并财务报表编制</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359240" y="307188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421160" y="3083040"/>
            <a:ext cx="36504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5076720" y="3147840"/>
            <a:ext cx="324036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非同一控制下购并日的合并财务报表编制</a:t>
            </a:r>
            <a:endParaRPr b="0" lang="en-US" sz="2000" spc="-1" strike="noStrike">
              <a:solidFill>
                <a:srgbClr val="000000"/>
              </a:solidFill>
              <a:latin typeface="Arial"/>
            </a:endParaRPr>
          </a:p>
        </p:txBody>
      </p:sp>
      <p:sp>
        <p:nvSpPr>
          <p:cNvPr id="934"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5"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96" name="内容占位符 1" descr=""/>
          <p:cNvPicPr/>
          <p:nvPr/>
        </p:nvPicPr>
        <p:blipFill>
          <a:blip r:embed="rId1"/>
          <a:stretch/>
        </p:blipFill>
        <p:spPr>
          <a:xfrm>
            <a:off x="1187280" y="896760"/>
            <a:ext cx="6748560" cy="646200"/>
          </a:xfrm>
          <a:prstGeom prst="rect">
            <a:avLst/>
          </a:prstGeom>
          <a:ln w="0">
            <a:noFill/>
          </a:ln>
        </p:spPr>
      </p:pic>
      <p:pic>
        <p:nvPicPr>
          <p:cNvPr id="997" name="图片 8" descr=""/>
          <p:cNvPicPr/>
          <p:nvPr/>
        </p:nvPicPr>
        <p:blipFill>
          <a:blip r:embed="rId2"/>
          <a:srcRect l="0" t="15899" r="0" b="0"/>
          <a:stretch/>
        </p:blipFill>
        <p:spPr>
          <a:xfrm>
            <a:off x="974880" y="1492200"/>
            <a:ext cx="7191360" cy="3179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9"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00" name="图片 2" descr=""/>
          <p:cNvPicPr/>
          <p:nvPr/>
        </p:nvPicPr>
        <p:blipFill>
          <a:blip r:embed="rId1"/>
          <a:stretch/>
        </p:blipFill>
        <p:spPr>
          <a:xfrm>
            <a:off x="1042920" y="1033560"/>
            <a:ext cx="7058160" cy="3076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投资成本小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5</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5</a:t>
            </a:r>
            <a:r>
              <a:rPr b="0" lang="zh-CN" sz="1200" spc="-1" strike="noStrike">
                <a:solidFill>
                  <a:srgbClr val="000000"/>
                </a:solidFill>
                <a:latin typeface="Arial"/>
              </a:rPr>
              <a:t>所示，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3.5</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 000</a:t>
            </a:r>
            <a:endParaRPr b="0" lang="en-US" sz="1200" spc="-1" strike="noStrike">
              <a:solidFill>
                <a:srgbClr val="262626"/>
              </a:solidFill>
              <a:latin typeface="Arial"/>
            </a:endParaRPr>
          </a:p>
        </p:txBody>
      </p:sp>
      <p:sp>
        <p:nvSpPr>
          <p:cNvPr id="100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合并工作底稿上，应将子公司高估或低估的资产、负债项目调整至公允价值，因此本例的工作底稿上应有如下一笔调整分录，一笔抵销分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调整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 </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由于合并成本</a:t>
            </a:r>
            <a:r>
              <a:rPr b="0" lang="en-US" sz="1200" spc="-1" strike="noStrike">
                <a:solidFill>
                  <a:srgbClr val="000000"/>
                </a:solidFill>
                <a:latin typeface="Arial"/>
              </a:rPr>
              <a:t>700 000</a:t>
            </a:r>
            <a:r>
              <a:rPr b="0" lang="zh-CN" sz="1200" spc="-1" strike="noStrike">
                <a:solidFill>
                  <a:srgbClr val="000000"/>
                </a:solidFill>
                <a:latin typeface="Arial"/>
              </a:rPr>
              <a:t>元小于合并中取得的</a:t>
            </a:r>
            <a:r>
              <a:rPr b="0" lang="en-US" sz="1200" spc="-1" strike="noStrike">
                <a:solidFill>
                  <a:srgbClr val="000000"/>
                </a:solidFill>
                <a:latin typeface="Arial"/>
              </a:rPr>
              <a:t>S</a:t>
            </a:r>
            <a:r>
              <a:rPr b="0" lang="zh-CN" sz="1200" spc="-1" strike="noStrike">
                <a:solidFill>
                  <a:srgbClr val="000000"/>
                </a:solidFill>
                <a:latin typeface="Arial"/>
              </a:rPr>
              <a:t>公司可辨认净资产公允价值份额</a:t>
            </a:r>
            <a:r>
              <a:rPr b="0" lang="en-US" sz="1200" spc="-1" strike="noStrike">
                <a:solidFill>
                  <a:srgbClr val="000000"/>
                </a:solidFill>
                <a:latin typeface="Arial"/>
              </a:rPr>
              <a:t>867 6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假设两家公司均按照净利润的</a:t>
            </a:r>
            <a:r>
              <a:rPr b="0" lang="en-US" sz="1200" spc="-1" strike="noStrike">
                <a:solidFill>
                  <a:srgbClr val="000000"/>
                </a:solidFill>
                <a:latin typeface="Arial"/>
              </a:rPr>
              <a:t>10%</a:t>
            </a:r>
            <a:r>
              <a:rPr b="0" lang="zh-CN" sz="1200" spc="-1" strike="noStrike">
                <a:solidFill>
                  <a:srgbClr val="000000"/>
                </a:solidFill>
                <a:latin typeface="Arial"/>
              </a:rPr>
              <a:t>提取盈余公积，则差额</a:t>
            </a:r>
            <a:r>
              <a:rPr b="0" lang="en-US" sz="1200" spc="-1" strike="noStrike">
                <a:solidFill>
                  <a:srgbClr val="000000"/>
                </a:solidFill>
                <a:latin typeface="Arial"/>
              </a:rPr>
              <a:t>167 600</a:t>
            </a:r>
            <a:r>
              <a:rPr b="0" lang="zh-CN" sz="1200" spc="-1" strike="noStrike">
                <a:solidFill>
                  <a:srgbClr val="000000"/>
                </a:solidFill>
                <a:latin typeface="Arial"/>
              </a:rPr>
              <a:t>元应按</a:t>
            </a:r>
            <a:r>
              <a:rPr b="0" lang="en-US" sz="1200" spc="-1" strike="noStrike">
                <a:solidFill>
                  <a:srgbClr val="000000"/>
                </a:solidFill>
                <a:latin typeface="Arial"/>
              </a:rPr>
              <a:t>10%</a:t>
            </a:r>
            <a:r>
              <a:rPr b="0" lang="zh-CN" sz="1200" spc="-1" strike="noStrike">
                <a:solidFill>
                  <a:srgbClr val="000000"/>
                </a:solidFill>
                <a:latin typeface="Arial"/>
              </a:rPr>
              <a:t>和</a:t>
            </a:r>
            <a:r>
              <a:rPr b="0" lang="en-US" sz="1200" spc="-1" strike="noStrike">
                <a:solidFill>
                  <a:srgbClr val="000000"/>
                </a:solidFill>
                <a:latin typeface="Arial"/>
              </a:rPr>
              <a:t>90%</a:t>
            </a:r>
            <a:r>
              <a:rPr b="0" lang="zh-CN" sz="1200" spc="-1" strike="noStrike">
                <a:solidFill>
                  <a:srgbClr val="000000"/>
                </a:solidFill>
                <a:latin typeface="Arial"/>
              </a:rPr>
              <a:t>的比例调整盈余公积和未分配利润。</a:t>
            </a:r>
            <a:endParaRPr b="0" lang="en-US" sz="1200" spc="-1" strike="noStrike">
              <a:solidFill>
                <a:srgbClr val="262626"/>
              </a:solidFill>
              <a:latin typeface="Arial"/>
            </a:endParaRPr>
          </a:p>
        </p:txBody>
      </p:sp>
      <p:sp>
        <p:nvSpPr>
          <p:cNvPr id="100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抵消分录：</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0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6 4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6 76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150 840</a:t>
            </a:r>
            <a:endParaRPr b="0" lang="en-US" sz="1200" spc="-1" strike="noStrike">
              <a:solidFill>
                <a:srgbClr val="262626"/>
              </a:solidFill>
              <a:latin typeface="Arial"/>
            </a:endParaRPr>
          </a:p>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中：少数股东权益＝</a:t>
            </a:r>
            <a:r>
              <a:rPr b="0" lang="en-US" sz="1200" spc="-1" strike="noStrike">
                <a:solidFill>
                  <a:srgbClr val="000000"/>
                </a:solidFill>
                <a:latin typeface="Arial"/>
              </a:rPr>
              <a:t>S</a:t>
            </a:r>
            <a:r>
              <a:rPr b="0" lang="zh-CN" sz="1200" spc="-1" strike="noStrike">
                <a:solidFill>
                  <a:srgbClr val="000000"/>
                </a:solidFill>
                <a:latin typeface="Arial"/>
              </a:rPr>
              <a:t>公司可辨认净资产的公允价值</a:t>
            </a:r>
            <a:r>
              <a:rPr b="0" lang="en-US" sz="1200" spc="-1" strike="noStrike">
                <a:solidFill>
                  <a:srgbClr val="000000"/>
                </a:solidFill>
                <a:latin typeface="Arial"/>
              </a:rPr>
              <a:t>×</a:t>
            </a:r>
            <a:r>
              <a:rPr b="0" lang="zh-CN" sz="1200" spc="-1" strike="noStrike">
                <a:solidFill>
                  <a:srgbClr val="000000"/>
                </a:solidFill>
                <a:latin typeface="Arial"/>
              </a:rPr>
              <a:t>少数股东权益持股比例＝</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96 400</a:t>
            </a:r>
            <a:r>
              <a:rPr b="0" lang="zh-CN" sz="1200" spc="-1" strike="noStrike">
                <a:solidFill>
                  <a:srgbClr val="000000"/>
                </a:solidFill>
                <a:latin typeface="Arial"/>
              </a:rPr>
              <a:t>（元）</a:t>
            </a:r>
            <a:endParaRPr b="0" lang="en-US" sz="1200" spc="-1" strike="noStrike">
              <a:solidFill>
                <a:srgbClr val="262626"/>
              </a:solidFill>
              <a:latin typeface="Arial"/>
            </a:endParaRPr>
          </a:p>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TextBox 2"/>
          <p:cNvSpPr/>
          <p:nvPr/>
        </p:nvSpPr>
        <p:spPr>
          <a:xfrm>
            <a:off x="1719360" y="1039680"/>
            <a:ext cx="35654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宋体"/>
              </a:rPr>
              <a:t>合并报表工作底稿如表</a:t>
            </a:r>
            <a:r>
              <a:rPr b="0" lang="en-US" sz="1500" spc="-1" strike="noStrike">
                <a:solidFill>
                  <a:srgbClr val="ffffff"/>
                </a:solidFill>
                <a:latin typeface="微软雅黑"/>
                <a:ea typeface="宋体"/>
              </a:rPr>
              <a:t>5-7</a:t>
            </a:r>
            <a:r>
              <a:rPr b="0" lang="zh-CN" sz="1500" spc="-1" strike="noStrike">
                <a:solidFill>
                  <a:srgbClr val="ffffff"/>
                </a:solidFill>
                <a:latin typeface="微软雅黑"/>
                <a:ea typeface="宋体"/>
              </a:rPr>
              <a:t>所示：</a:t>
            </a:r>
            <a:endParaRPr b="0" lang="en-US" sz="1500" spc="-1" strike="noStrike">
              <a:solidFill>
                <a:srgbClr val="000000"/>
              </a:solidFill>
              <a:latin typeface="Arial"/>
            </a:endParaRPr>
          </a:p>
        </p:txBody>
      </p:sp>
      <p:sp>
        <p:nvSpPr>
          <p:cNvPr id="100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09" name="内容占位符 1" descr=""/>
          <p:cNvPicPr/>
          <p:nvPr/>
        </p:nvPicPr>
        <p:blipFill>
          <a:blip r:embed="rId1"/>
          <a:stretch/>
        </p:blipFill>
        <p:spPr>
          <a:xfrm>
            <a:off x="1004760" y="1224000"/>
            <a:ext cx="7066080" cy="700200"/>
          </a:xfrm>
          <a:prstGeom prst="rect">
            <a:avLst/>
          </a:prstGeom>
          <a:ln w="0">
            <a:noFill/>
          </a:ln>
        </p:spPr>
      </p:pic>
      <p:pic>
        <p:nvPicPr>
          <p:cNvPr id="1010" name="图片 9" descr=""/>
          <p:cNvPicPr/>
          <p:nvPr/>
        </p:nvPicPr>
        <p:blipFill>
          <a:blip r:embed="rId2"/>
          <a:srcRect l="0" t="15980" r="0" b="0"/>
          <a:stretch/>
        </p:blipFill>
        <p:spPr>
          <a:xfrm>
            <a:off x="1004760" y="1924200"/>
            <a:ext cx="7134480" cy="2489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13" name="图片 8" descr=""/>
          <p:cNvPicPr/>
          <p:nvPr/>
        </p:nvPicPr>
        <p:blipFill>
          <a:blip r:embed="rId1"/>
          <a:stretch/>
        </p:blipFill>
        <p:spPr>
          <a:xfrm>
            <a:off x="1036800" y="1106640"/>
            <a:ext cx="7067520" cy="3238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图片 2" descr=""/>
          <p:cNvPicPr/>
          <p:nvPr/>
        </p:nvPicPr>
        <p:blipFill>
          <a:blip r:embed="rId1"/>
          <a:stretch/>
        </p:blipFill>
        <p:spPr>
          <a:xfrm>
            <a:off x="2771640" y="2932200"/>
            <a:ext cx="3025800" cy="1922400"/>
          </a:xfrm>
          <a:prstGeom prst="rect">
            <a:avLst/>
          </a:prstGeom>
          <a:ln w="0">
            <a:noFill/>
          </a:ln>
        </p:spPr>
      </p:pic>
      <p:sp>
        <p:nvSpPr>
          <p:cNvPr id="101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从友谊股份合并百联股份来看权益结合法与购买法</a:t>
            </a:r>
            <a:endParaRPr b="0" lang="en-US" sz="20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一、合并双方的背景及合并过程介绍</a:t>
            </a:r>
            <a:endParaRPr b="0" lang="en-US" sz="14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双方的最终控制方</a:t>
            </a:r>
            <a:r>
              <a:rPr b="0" lang="en-US" sz="1200" spc="-1" strike="noStrike">
                <a:solidFill>
                  <a:srgbClr val="000000"/>
                </a:solidFill>
                <a:latin typeface="微软雅黑"/>
              </a:rPr>
              <a:t>——</a:t>
            </a:r>
            <a:r>
              <a:rPr b="0" lang="zh-CN" sz="1200" spc="-1" strike="noStrike">
                <a:solidFill>
                  <a:srgbClr val="000000"/>
                </a:solidFill>
                <a:latin typeface="微软雅黑"/>
              </a:rPr>
              <a:t>百联集团有限公司（以下简称“百联集团”）是上海市国资委在</a:t>
            </a:r>
            <a:r>
              <a:rPr b="0" lang="en-US" sz="1200" spc="-1" strike="noStrike">
                <a:solidFill>
                  <a:srgbClr val="000000"/>
                </a:solidFill>
                <a:latin typeface="微软雅黑"/>
              </a:rPr>
              <a:t>2003</a:t>
            </a:r>
            <a:r>
              <a:rPr b="0" lang="zh-CN" sz="1200" spc="-1" strike="noStrike">
                <a:solidFill>
                  <a:srgbClr val="000000"/>
                </a:solidFill>
                <a:latin typeface="微软雅黑"/>
              </a:rPr>
              <a:t>年成立的以商贸流通为主营业务的企业集团，其注册资本为</a:t>
            </a:r>
            <a:r>
              <a:rPr b="0" lang="en-US" sz="1200" spc="-1" strike="noStrike">
                <a:solidFill>
                  <a:srgbClr val="000000"/>
                </a:solidFill>
                <a:latin typeface="微软雅黑"/>
              </a:rPr>
              <a:t>10</a:t>
            </a:r>
            <a:r>
              <a:rPr b="0" lang="zh-CN" sz="1200" spc="-1" strike="noStrike">
                <a:solidFill>
                  <a:srgbClr val="000000"/>
                </a:solidFill>
                <a:latin typeface="微软雅黑"/>
              </a:rPr>
              <a:t>亿元。目前，其资产总额超过</a:t>
            </a:r>
            <a:r>
              <a:rPr b="0" lang="en-US" sz="1200" spc="-1" strike="noStrike">
                <a:solidFill>
                  <a:srgbClr val="000000"/>
                </a:solidFill>
                <a:latin typeface="微软雅黑"/>
              </a:rPr>
              <a:t>300</a:t>
            </a:r>
            <a:r>
              <a:rPr b="0" lang="zh-CN" sz="1200" spc="-1" strike="noStrike">
                <a:solidFill>
                  <a:srgbClr val="000000"/>
                </a:solidFill>
                <a:latin typeface="微软雅黑"/>
              </a:rPr>
              <a:t>亿元，是我国规模最大、网点最多的商贸流通企业集团，在</a:t>
            </a:r>
            <a:r>
              <a:rPr b="0" lang="en-US" sz="1200" spc="-1" strike="noStrike">
                <a:solidFill>
                  <a:srgbClr val="000000"/>
                </a:solidFill>
                <a:latin typeface="微软雅黑"/>
              </a:rPr>
              <a:t>2019</a:t>
            </a:r>
            <a:r>
              <a:rPr b="0" lang="zh-CN" sz="1200" spc="-1" strike="noStrike">
                <a:solidFill>
                  <a:srgbClr val="000000"/>
                </a:solidFill>
                <a:latin typeface="微软雅黑"/>
              </a:rPr>
              <a:t>年的“中国</a:t>
            </a:r>
            <a:r>
              <a:rPr b="0" lang="en-US" sz="1200" spc="-1" strike="noStrike">
                <a:solidFill>
                  <a:srgbClr val="000000"/>
                </a:solidFill>
                <a:latin typeface="微软雅黑"/>
              </a:rPr>
              <a:t>500</a:t>
            </a:r>
            <a:r>
              <a:rPr b="0" lang="zh-CN" sz="1200" spc="-1" strike="noStrike">
                <a:solidFill>
                  <a:srgbClr val="000000"/>
                </a:solidFill>
                <a:latin typeface="微软雅黑"/>
              </a:rPr>
              <a:t>强”企业中位列第一百八十六名。合并前合并双方的股权结构如图</a:t>
            </a:r>
            <a:r>
              <a:rPr b="0" lang="en-US" sz="1200" spc="-1" strike="noStrike">
                <a:solidFill>
                  <a:srgbClr val="000000"/>
                </a:solidFill>
                <a:latin typeface="微软雅黑"/>
              </a:rPr>
              <a:t>5-1</a:t>
            </a:r>
            <a:r>
              <a:rPr b="0" lang="zh-CN" sz="1200" spc="-1" strike="noStrike">
                <a:solidFill>
                  <a:srgbClr val="000000"/>
                </a:solidFill>
                <a:latin typeface="微软雅黑"/>
              </a:rPr>
              <a:t>所示。</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友谊股份通过两个阶段实现了对百联股份的并购。首先，友谊股份通过增发股票获得百联股份</a:t>
            </a:r>
            <a:r>
              <a:rPr b="0" lang="en-US" sz="1200" spc="-1" strike="noStrike">
                <a:solidFill>
                  <a:srgbClr val="000000"/>
                </a:solidFill>
                <a:latin typeface="微软雅黑"/>
              </a:rPr>
              <a:t>100</a:t>
            </a:r>
            <a:r>
              <a:rPr b="0" lang="zh-CN" sz="1200" spc="-1" strike="noStrike">
                <a:solidFill>
                  <a:srgbClr val="000000"/>
                </a:solidFill>
                <a:latin typeface="微软雅黑"/>
              </a:rPr>
              <a:t>％的股权，之后百联股份退市；然后，友谊股份向百联集团增发股份，收购百联股份持有的八佰伴</a:t>
            </a:r>
            <a:r>
              <a:rPr b="0" lang="en-US" sz="1200" spc="-1" strike="noStrike">
                <a:solidFill>
                  <a:srgbClr val="000000"/>
                </a:solidFill>
                <a:latin typeface="微软雅黑"/>
              </a:rPr>
              <a:t>36</a:t>
            </a:r>
            <a:r>
              <a:rPr b="0" lang="zh-CN" sz="1200" spc="-1" strike="noStrike">
                <a:solidFill>
                  <a:srgbClr val="000000"/>
                </a:solidFill>
                <a:latin typeface="微软雅黑"/>
              </a:rPr>
              <a:t>％的股权和上海百联投资管理有限公司（以下简称“百联投资公司”）</a:t>
            </a:r>
            <a:r>
              <a:rPr b="0" lang="en-US" sz="1200" spc="-1" strike="noStrike">
                <a:solidFill>
                  <a:srgbClr val="000000"/>
                </a:solidFill>
                <a:latin typeface="微软雅黑"/>
              </a:rPr>
              <a:t>100</a:t>
            </a:r>
            <a:r>
              <a:rPr b="0" lang="zh-CN" sz="1200" spc="-1" strike="noStrike">
                <a:solidFill>
                  <a:srgbClr val="000000"/>
                </a:solidFill>
                <a:latin typeface="微软雅黑"/>
              </a:rPr>
              <a:t>％的股权。</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友谊股份取得对百联股份的控制权，宣告合并成功，百联集团则以</a:t>
            </a:r>
            <a:r>
              <a:rPr b="0" lang="en-US" sz="1200" spc="-1" strike="noStrike">
                <a:solidFill>
                  <a:srgbClr val="000000"/>
                </a:solidFill>
                <a:latin typeface="微软雅黑"/>
              </a:rPr>
              <a:t>49.24</a:t>
            </a:r>
            <a:r>
              <a:rPr b="0" lang="zh-CN" sz="1200" spc="-1" strike="noStrike">
                <a:solidFill>
                  <a:srgbClr val="000000"/>
                </a:solidFill>
                <a:latin typeface="微软雅黑"/>
              </a:rPr>
              <a:t>％的持股比例成为友谊股份（新）的大股东，此时的股权结构如图</a:t>
            </a:r>
            <a:r>
              <a:rPr b="0" lang="en-US" sz="1200" spc="-1" strike="noStrike">
                <a:solidFill>
                  <a:srgbClr val="000000"/>
                </a:solidFill>
                <a:latin typeface="微软雅黑"/>
              </a:rPr>
              <a:t>5-2</a:t>
            </a:r>
            <a:r>
              <a:rPr b="0" lang="zh-CN" sz="1200" spc="-1" strike="noStrike">
                <a:solidFill>
                  <a:srgbClr val="000000"/>
                </a:solidFill>
                <a:latin typeface="微软雅黑"/>
              </a:rPr>
              <a:t>所示。</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pic>
        <p:nvPicPr>
          <p:cNvPr id="1019" name="图片 2" descr=""/>
          <p:cNvPicPr/>
          <p:nvPr/>
        </p:nvPicPr>
        <p:blipFill>
          <a:blip r:embed="rId1"/>
          <a:stretch/>
        </p:blipFill>
        <p:spPr>
          <a:xfrm>
            <a:off x="2627280" y="2427120"/>
            <a:ext cx="3505320" cy="2332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二、合并时点采用权益结合法的会计处理结果</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由于友谊股份与百联股份的最终控制方均为百联集团，因此这笔交易为同一控制下的企业合并，按照准则规定，应当采用权益结合法进行会计处理。合并时点</a:t>
            </a:r>
            <a:r>
              <a:rPr b="0" lang="en-US" sz="1200" spc="-1" strike="noStrike">
                <a:solidFill>
                  <a:srgbClr val="000000"/>
                </a:solidFill>
                <a:latin typeface="微软雅黑"/>
              </a:rPr>
              <a:t>——</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个别财务报表与合并财务报表的财务数据、财务指标的对比情况如表</a:t>
            </a:r>
            <a:r>
              <a:rPr b="0" lang="en-US" sz="1200" spc="-1" strike="noStrike">
                <a:solidFill>
                  <a:srgbClr val="000000"/>
                </a:solidFill>
                <a:latin typeface="微软雅黑"/>
              </a:rPr>
              <a:t>5-8</a:t>
            </a:r>
            <a:r>
              <a:rPr b="0" lang="zh-CN" sz="1200" spc="-1" strike="noStrike">
                <a:solidFill>
                  <a:srgbClr val="000000"/>
                </a:solidFill>
                <a:latin typeface="微软雅黑"/>
              </a:rPr>
              <a:t>和表</a:t>
            </a:r>
            <a:r>
              <a:rPr b="0" lang="en-US" sz="1200" spc="-1" strike="noStrike">
                <a:solidFill>
                  <a:srgbClr val="000000"/>
                </a:solidFill>
                <a:latin typeface="微软雅黑"/>
              </a:rPr>
              <a:t>5-9</a:t>
            </a:r>
            <a:r>
              <a:rPr b="0" lang="zh-CN" sz="1200" spc="-1" strike="noStrike">
                <a:solidFill>
                  <a:srgbClr val="000000"/>
                </a:solidFill>
                <a:latin typeface="微软雅黑"/>
              </a:rPr>
              <a:t>所示。</a:t>
            </a:r>
            <a:endParaRPr b="0" lang="en-US" sz="1200" spc="-1" strike="noStrike">
              <a:solidFill>
                <a:srgbClr val="262626"/>
              </a:solidFill>
              <a:latin typeface="Arial"/>
            </a:endParaRPr>
          </a:p>
        </p:txBody>
      </p:sp>
      <p:sp>
        <p:nvSpPr>
          <p:cNvPr id="102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3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按照我国</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20</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企业合并</a:t>
            </a:r>
            <a:r>
              <a:rPr b="0" lang="en-US" sz="1200" spc="-1" strike="noStrike">
                <a:solidFill>
                  <a:srgbClr val="000000"/>
                </a:solidFill>
                <a:latin typeface="Arial"/>
              </a:rPr>
              <a:t>》</a:t>
            </a:r>
            <a:r>
              <a:rPr b="0" lang="zh-CN" sz="1200" spc="-1" strike="noStrike">
                <a:solidFill>
                  <a:srgbClr val="000000"/>
                </a:solidFill>
                <a:latin typeface="Arial"/>
              </a:rPr>
              <a:t>规定，无论同一控制下的企业合并，还是非同一控制下的企业合并，只要形成母子公司的，都要编制购并日的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同一控制下企业合并采用权益结合法处理。母公司应当编制购并日的合并资产负债表、合并利润表和合并现金流量表。在权益结合法下确认初始投资成本时以子公司净资产的账面价值入账，在编制合并财务报表时也是按子公司净资产的账面价值合并，既不用考虑母公司支付对价的公允价值，又不用考虑子公司净资产的公允价值。因此在同一控制下采用权益结合法编制的合并财务报表不会产生商誉，合并业务也比较简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24" name="图片 3" descr=""/>
          <p:cNvPicPr/>
          <p:nvPr/>
        </p:nvPicPr>
        <p:blipFill>
          <a:blip r:embed="rId1"/>
          <a:stretch/>
        </p:blipFill>
        <p:spPr>
          <a:xfrm>
            <a:off x="552600" y="963720"/>
            <a:ext cx="8038800" cy="3671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5" name="图片 3" descr=""/>
          <p:cNvPicPr/>
          <p:nvPr/>
        </p:nvPicPr>
        <p:blipFill>
          <a:blip r:embed="rId1"/>
          <a:stretch/>
        </p:blipFill>
        <p:spPr>
          <a:xfrm>
            <a:off x="674640" y="885960"/>
            <a:ext cx="7792920" cy="4019400"/>
          </a:xfrm>
          <a:prstGeom prst="rect">
            <a:avLst/>
          </a:prstGeom>
          <a:ln w="0">
            <a:noFill/>
          </a:ln>
        </p:spPr>
      </p:pic>
      <p:sp>
        <p:nvSpPr>
          <p:cNvPr id="102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数据来看，使用权益结合法进行企业合并会计处理后，友谊股份的报表数据并入了原百联股份的资产、负债和利润，因而友谊股份合并财务报表中的资产、负债、所有者权益，以及收入、成本、利润均较个别财务报表有了</a:t>
            </a:r>
            <a:r>
              <a:rPr b="0" lang="zh-CN" sz="1200" spc="-1" strike="noStrike">
                <a:solidFill>
                  <a:srgbClr val="ff0000"/>
                </a:solidFill>
                <a:latin typeface="微软雅黑"/>
              </a:rPr>
              <a:t>很大的增长</a:t>
            </a:r>
            <a:r>
              <a:rPr b="0" lang="zh-CN" sz="1200" spc="-1" strike="noStrike">
                <a:solidFill>
                  <a:srgbClr val="000000"/>
                </a:solidFill>
                <a:latin typeface="微软雅黑"/>
              </a:rPr>
              <a:t>。从财务指标来看，因为采用权益结合法核算后，资产和负债均有</a:t>
            </a:r>
            <a:r>
              <a:rPr b="0" lang="zh-CN" sz="1200" spc="-1" strike="noStrike">
                <a:solidFill>
                  <a:srgbClr val="ff0000"/>
                </a:solidFill>
                <a:latin typeface="微软雅黑"/>
              </a:rPr>
              <a:t>提升</a:t>
            </a:r>
            <a:r>
              <a:rPr b="0" lang="zh-CN" sz="1200" spc="-1" strike="noStrike">
                <a:solidFill>
                  <a:srgbClr val="000000"/>
                </a:solidFill>
                <a:latin typeface="微软雅黑"/>
              </a:rPr>
              <a:t>。此外，权益结合法要求将百联股份在合并时点前的年度利润全部并入合并财务报表，导致合并财务报表中的年度利润出现了</a:t>
            </a:r>
            <a:r>
              <a:rPr b="0" lang="zh-CN" sz="1200" spc="-1" strike="noStrike">
                <a:solidFill>
                  <a:srgbClr val="ff0000"/>
                </a:solidFill>
                <a:latin typeface="微软雅黑"/>
              </a:rPr>
              <a:t>极大的增长</a:t>
            </a:r>
            <a:r>
              <a:rPr b="0" lang="zh-CN" sz="1200" spc="-1" strike="noStrike">
                <a:solidFill>
                  <a:srgbClr val="000000"/>
                </a:solidFill>
                <a:latin typeface="微软雅黑"/>
              </a:rPr>
              <a:t>。可见，合并行为</a:t>
            </a:r>
            <a:r>
              <a:rPr b="0" lang="zh-CN" sz="1200" spc="-1" strike="noStrike">
                <a:solidFill>
                  <a:srgbClr val="ff0000"/>
                </a:solidFill>
                <a:latin typeface="微软雅黑"/>
              </a:rPr>
              <a:t>极大地美化</a:t>
            </a:r>
            <a:r>
              <a:rPr b="0" lang="zh-CN" sz="1200" spc="-1" strike="noStrike">
                <a:solidFill>
                  <a:srgbClr val="000000"/>
                </a:solidFill>
                <a:latin typeface="微软雅黑"/>
              </a:rPr>
              <a:t>了公司经营方面的指标。</a:t>
            </a:r>
            <a:endParaRPr b="0" lang="en-US" sz="1200" spc="-1" strike="noStrike">
              <a:solidFill>
                <a:srgbClr val="262626"/>
              </a:solidFill>
              <a:latin typeface="Arial"/>
            </a:endParaRPr>
          </a:p>
        </p:txBody>
      </p:sp>
      <p:sp>
        <p:nvSpPr>
          <p:cNvPr id="102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三、合并时点采用购买法的会计处理结果</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假设此次合并属于购买法的范畴，即友谊股份购买了百联股份的净资产和经营权，则此交易应当以公允价值进行计量，合并对价与被合并方的可辨认净资产公允价值之差计入商誉或负商誉，期末合并财务报表只需要纳入百联股份在合并后取得的利润。</a:t>
            </a:r>
            <a:endParaRPr b="0" lang="en-US" sz="1200" spc="-1" strike="noStrike">
              <a:solidFill>
                <a:srgbClr val="262626"/>
              </a:solidFill>
              <a:latin typeface="Arial"/>
            </a:endParaRPr>
          </a:p>
        </p:txBody>
      </p:sp>
      <p:sp>
        <p:nvSpPr>
          <p:cNvPr id="1030"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33" name="图片 3" descr=""/>
          <p:cNvPicPr/>
          <p:nvPr/>
        </p:nvPicPr>
        <p:blipFill>
          <a:blip r:embed="rId1"/>
          <a:stretch/>
        </p:blipFill>
        <p:spPr>
          <a:xfrm>
            <a:off x="684360" y="1058760"/>
            <a:ext cx="7878600" cy="3603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36" name="图片 3" descr=""/>
          <p:cNvPicPr/>
          <p:nvPr/>
        </p:nvPicPr>
        <p:blipFill>
          <a:blip r:embed="rId1"/>
          <a:srcRect l="0" t="0" r="0" b="77601"/>
          <a:stretch/>
        </p:blipFill>
        <p:spPr>
          <a:xfrm>
            <a:off x="960480" y="1087560"/>
            <a:ext cx="7219800" cy="1576440"/>
          </a:xfrm>
          <a:prstGeom prst="rect">
            <a:avLst/>
          </a:prstGeom>
          <a:ln w="0">
            <a:noFill/>
          </a:ln>
        </p:spPr>
      </p:pic>
      <p:pic>
        <p:nvPicPr>
          <p:cNvPr id="1037" name="图片 4" descr=""/>
          <p:cNvPicPr/>
          <p:nvPr/>
        </p:nvPicPr>
        <p:blipFill>
          <a:blip r:embed="rId2"/>
          <a:srcRect l="0" t="68438" r="0" b="0"/>
          <a:stretch/>
        </p:blipFill>
        <p:spPr>
          <a:xfrm>
            <a:off x="960480" y="2587680"/>
            <a:ext cx="7219800" cy="2222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数据来看，采用购买法进行会计处理后，友谊股份合并财务报表相比个别财务报表，并入了百联股份在合并时点的资产、负债和所有者权益，因此合并财务报表的总资产和总负债较个别财务报表分别提升了</a:t>
            </a:r>
            <a:r>
              <a:rPr b="0" lang="en-US" sz="1200" spc="-1" strike="noStrike">
                <a:solidFill>
                  <a:srgbClr val="000000"/>
                </a:solidFill>
                <a:latin typeface="微软雅黑"/>
              </a:rPr>
              <a:t>41.81</a:t>
            </a:r>
            <a:r>
              <a:rPr b="0" lang="zh-CN" sz="1200" spc="-1" strike="noStrike">
                <a:solidFill>
                  <a:srgbClr val="000000"/>
                </a:solidFill>
                <a:latin typeface="微软雅黑"/>
              </a:rPr>
              <a:t>％和</a:t>
            </a:r>
            <a:r>
              <a:rPr b="0" lang="en-US" sz="1200" spc="-1" strike="noStrike">
                <a:solidFill>
                  <a:srgbClr val="000000"/>
                </a:solidFill>
                <a:latin typeface="微软雅黑"/>
              </a:rPr>
              <a:t>45.24</a:t>
            </a:r>
            <a:r>
              <a:rPr b="0" lang="zh-CN" sz="1200" spc="-1" strike="noStrike">
                <a:solidFill>
                  <a:srgbClr val="000000"/>
                </a:solidFill>
                <a:latin typeface="微软雅黑"/>
              </a:rPr>
              <a:t>％。因为购买法下存在合并资产，所以总资产价值比权益结合法下的账面价值高。购买法下合并财务报表不并入百联股份在合并前取得的净利润，因而合并时点友谊股份合并财务报表中的利润与个别财务报表</a:t>
            </a:r>
            <a:r>
              <a:rPr b="0" lang="zh-CN" sz="1200" spc="-1" strike="noStrike">
                <a:solidFill>
                  <a:srgbClr val="ff0000"/>
                </a:solidFill>
                <a:latin typeface="微软雅黑"/>
              </a:rPr>
              <a:t>没有差异</a:t>
            </a:r>
            <a:r>
              <a:rPr b="0" lang="zh-CN" sz="1200" spc="-1" strike="noStrike">
                <a:solidFill>
                  <a:srgbClr val="000000"/>
                </a:solidFill>
                <a:latin typeface="微软雅黑"/>
              </a:rPr>
              <a:t>。</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指标来看，因为加入了百联股份的资产和负债，所以友谊股份合并财务报表的资产负债率和权益乘数相比个别财务报表各有</a:t>
            </a:r>
            <a:r>
              <a:rPr b="0" lang="en-US" sz="1200" spc="-1" strike="noStrike">
                <a:solidFill>
                  <a:srgbClr val="000000"/>
                </a:solidFill>
                <a:latin typeface="微软雅黑"/>
              </a:rPr>
              <a:t>2.42</a:t>
            </a:r>
            <a:r>
              <a:rPr b="0" lang="zh-CN" sz="1200" spc="-1" strike="noStrike">
                <a:solidFill>
                  <a:srgbClr val="000000"/>
                </a:solidFill>
                <a:latin typeface="微软雅黑"/>
              </a:rPr>
              <a:t>％和</a:t>
            </a:r>
            <a:r>
              <a:rPr b="0" lang="en-US" sz="1200" spc="-1" strike="noStrike">
                <a:solidFill>
                  <a:srgbClr val="000000"/>
                </a:solidFill>
                <a:latin typeface="微软雅黑"/>
              </a:rPr>
              <a:t>3.18</a:t>
            </a:r>
            <a:r>
              <a:rPr b="0" lang="zh-CN" sz="1200" spc="-1" strike="noStrike">
                <a:solidFill>
                  <a:srgbClr val="000000"/>
                </a:solidFill>
                <a:latin typeface="微软雅黑"/>
              </a:rPr>
              <a:t>％的提升。同时，因为利润等反映经营成果的项目未并入百联股份在合并时点前取得的利润，所以净资产收益率和总资产报酬率的合并财务报表数据较个别财务报表数据分别下降了</a:t>
            </a:r>
            <a:r>
              <a:rPr b="0" lang="en-US" sz="1200" spc="-1" strike="noStrike">
                <a:solidFill>
                  <a:srgbClr val="000000"/>
                </a:solidFill>
                <a:latin typeface="微软雅黑"/>
              </a:rPr>
              <a:t>27.51</a:t>
            </a:r>
            <a:r>
              <a:rPr b="0" lang="zh-CN" sz="1200" spc="-1" strike="noStrike">
                <a:solidFill>
                  <a:srgbClr val="000000"/>
                </a:solidFill>
                <a:latin typeface="微软雅黑"/>
              </a:rPr>
              <a:t>％和</a:t>
            </a:r>
            <a:r>
              <a:rPr b="0" lang="en-US" sz="1200" spc="-1" strike="noStrike">
                <a:solidFill>
                  <a:srgbClr val="000000"/>
                </a:solidFill>
                <a:latin typeface="微软雅黑"/>
              </a:rPr>
              <a:t>29.39</a:t>
            </a:r>
            <a:r>
              <a:rPr b="0" lang="zh-CN" sz="1200" spc="-1" strike="noStrike">
                <a:solidFill>
                  <a:srgbClr val="000000"/>
                </a:solidFill>
                <a:latin typeface="微软雅黑"/>
              </a:rPr>
              <a:t>％。因为购买法不影响本期利润项目，所以合并前后营业净利率</a:t>
            </a:r>
            <a:r>
              <a:rPr b="0" lang="zh-CN" sz="1200" spc="-1" strike="noStrike">
                <a:solidFill>
                  <a:srgbClr val="ff0000"/>
                </a:solidFill>
                <a:latin typeface="微软雅黑"/>
              </a:rPr>
              <a:t>无变化</a:t>
            </a:r>
            <a:r>
              <a:rPr b="0" lang="zh-CN" sz="1200" spc="-1" strike="noStrike">
                <a:solidFill>
                  <a:srgbClr val="000000"/>
                </a:solidFill>
                <a:latin typeface="微软雅黑"/>
              </a:rPr>
              <a:t>。</a:t>
            </a:r>
            <a:endParaRPr b="0" lang="en-US" sz="1200" spc="-1" strike="noStrike">
              <a:solidFill>
                <a:srgbClr val="262626"/>
              </a:solidFill>
              <a:latin typeface="Arial"/>
            </a:endParaRPr>
          </a:p>
        </p:txBody>
      </p:sp>
      <p:sp>
        <p:nvSpPr>
          <p:cNvPr id="1039"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四、两种会计处理方式的差异分析</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权益结合法与购买法的</a:t>
            </a:r>
            <a:r>
              <a:rPr b="0" lang="zh-CN" sz="1200" spc="-1" strike="noStrike">
                <a:solidFill>
                  <a:srgbClr val="ff0000"/>
                </a:solidFill>
                <a:latin typeface="微软雅黑"/>
              </a:rPr>
              <a:t>计量方式不同</a:t>
            </a:r>
            <a:r>
              <a:rPr b="0" lang="zh-CN" sz="1200" spc="-1" strike="noStrike">
                <a:solidFill>
                  <a:srgbClr val="000000"/>
                </a:solidFill>
                <a:latin typeface="微软雅黑"/>
              </a:rPr>
              <a:t>，导致处理后的财务指标存在差异。此差异在合并时点附近更为明显，因此本文选取合并时点</a:t>
            </a:r>
            <a:r>
              <a:rPr b="0" lang="en-US" sz="1200" spc="-1" strike="noStrike">
                <a:solidFill>
                  <a:srgbClr val="000000"/>
                </a:solidFill>
                <a:latin typeface="微软雅黑"/>
              </a:rPr>
              <a:t>——</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的财务指标数据进行对比分析。对比表</a:t>
            </a:r>
            <a:r>
              <a:rPr b="0" lang="en-US" sz="1200" spc="-1" strike="noStrike">
                <a:solidFill>
                  <a:srgbClr val="000000"/>
                </a:solidFill>
                <a:latin typeface="微软雅黑"/>
              </a:rPr>
              <a:t>5-9</a:t>
            </a:r>
            <a:r>
              <a:rPr b="0" lang="zh-CN" sz="1200" spc="-1" strike="noStrike">
                <a:solidFill>
                  <a:srgbClr val="000000"/>
                </a:solidFill>
                <a:latin typeface="微软雅黑"/>
              </a:rPr>
              <a:t>与表</a:t>
            </a:r>
            <a:r>
              <a:rPr b="0" lang="en-US" sz="1200" spc="-1" strike="noStrike">
                <a:solidFill>
                  <a:srgbClr val="000000"/>
                </a:solidFill>
                <a:latin typeface="微软雅黑"/>
              </a:rPr>
              <a:t>5-11</a:t>
            </a:r>
            <a:r>
              <a:rPr b="0" lang="zh-CN" sz="1200" spc="-1" strike="noStrike">
                <a:solidFill>
                  <a:srgbClr val="000000"/>
                </a:solidFill>
                <a:latin typeface="微软雅黑"/>
              </a:rPr>
              <a:t>“</a:t>
            </a:r>
            <a:r>
              <a:rPr b="0" lang="zh-CN" sz="1200" spc="-1" strike="noStrike">
                <a:solidFill>
                  <a:srgbClr val="000000"/>
                </a:solidFill>
                <a:latin typeface="微软雅黑"/>
              </a:rPr>
              <a:t>合并财务报表”列的数据可知，在反映企业财务状况的指标上，权益结合法下的资产负债率和权益乘数均略高于购买法下的数据。其原因在于，购买法下的被合并方资产采用公允价值计量，当此部分资产发生评估增值时，购买法下的合并方总资产价值就高于权益结合法下的合并方总资产价值，从而导致两种处理方式下资产负债率和权益乘数的差异</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在反映企业经营状况的指标上，</a:t>
            </a:r>
            <a:r>
              <a:rPr b="0" lang="zh-CN" sz="1200" spc="-1" strike="noStrike">
                <a:solidFill>
                  <a:srgbClr val="ff0000"/>
                </a:solidFill>
                <a:latin typeface="微软雅黑"/>
              </a:rPr>
              <a:t>权益结合法下的每股收益、净资产收益率、总资产报酬率和总资产周转率均明显高于购买法下的数据</a:t>
            </a:r>
            <a:r>
              <a:rPr b="0" lang="zh-CN" sz="1200" spc="-1" strike="noStrike">
                <a:solidFill>
                  <a:srgbClr val="000000"/>
                </a:solidFill>
                <a:latin typeface="微软雅黑"/>
              </a:rPr>
              <a:t>。其原因在于，权益结合法下合并财务报表层面并入了被合并方在合并年度的全年利润，而购买法下并不将这部分利润并入合并财务报表，导致两种处理方式下的年度利润产生巨大差异，也导致相关财务指标的巨大差异，此差异在合并时点前后更为明显。另外，</a:t>
            </a:r>
            <a:r>
              <a:rPr b="0" lang="zh-CN" sz="1200" spc="-1" strike="noStrike">
                <a:solidFill>
                  <a:srgbClr val="ff0000"/>
                </a:solidFill>
                <a:latin typeface="微软雅黑"/>
              </a:rPr>
              <a:t>权益结合法的处理方式导致总股数增加，使每股净资产低于购买法下的数值</a:t>
            </a:r>
            <a:r>
              <a:rPr b="0" lang="zh-CN" sz="1200" spc="-1" strike="noStrike">
                <a:solidFill>
                  <a:srgbClr val="000000"/>
                </a:solidFill>
                <a:latin typeface="微软雅黑"/>
              </a:rPr>
              <a:t>。但总体而言，权益结合法提升了合并财务报表中经营状况相关指标的值，起到了美化财务报表的作用。</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4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五、案例启示</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对同一控制下的企业合并，两种会计处理方式各有</a:t>
            </a:r>
            <a:r>
              <a:rPr b="0" lang="zh-CN" sz="1200" spc="-1" strike="noStrike">
                <a:solidFill>
                  <a:srgbClr val="ff0000"/>
                </a:solidFill>
                <a:latin typeface="微软雅黑"/>
              </a:rPr>
              <a:t>优势</a:t>
            </a:r>
            <a:r>
              <a:rPr b="0" lang="zh-CN" sz="1200" spc="-1" strike="noStrike">
                <a:solidFill>
                  <a:srgbClr val="000000"/>
                </a:solidFill>
                <a:latin typeface="微软雅黑"/>
              </a:rPr>
              <a:t>。权益结合法采用账面价值进行核算，有助于企业所有者评价经营者的经营效果，并且可以防止经营者通过操纵公允价值来改变利润，提供的信息更可靠；而采用公允价值计量的购买法能够提供更相关的价值信息，提升信息对投资者的决策有用性。此外，购买法增加了合并资产的总价值，权益结合法则增加了本期利润，使本期的盈利指标膨胀。</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两种会计处理方法也都存在</a:t>
            </a:r>
            <a:r>
              <a:rPr b="0" lang="zh-CN" sz="1200" spc="-1" strike="noStrike">
                <a:solidFill>
                  <a:srgbClr val="ff0000"/>
                </a:solidFill>
                <a:latin typeface="微软雅黑"/>
              </a:rPr>
              <a:t>漏洞</a:t>
            </a:r>
            <a:r>
              <a:rPr b="0" lang="zh-CN" sz="1200" spc="-1" strike="noStrike">
                <a:solidFill>
                  <a:srgbClr val="000000"/>
                </a:solidFill>
                <a:latin typeface="微软雅黑"/>
              </a:rPr>
              <a:t>。采用权益结合法对企业合并交易进行处理时，合并方可以通过调整合并时点和出售评估增值的资产来增加企业当期利润，这种潜在的操纵利润的可能性是权益结合法最大的缺点。在此方面，购买法有一定的优势，但合并方易于操纵利润以及公允价值评估的不准确性是其最大的缺点。现有相关研究的重点仍为如何改进同一控制下企业合并的会计处理方法，以提升企业合并中会计信息的可靠性和可比性。</a:t>
            </a:r>
            <a:endParaRPr b="0" lang="en-US" sz="1200" spc="-1" strike="noStrike">
              <a:solidFill>
                <a:srgbClr val="262626"/>
              </a:solidFill>
              <a:latin typeface="Arial"/>
            </a:endParaRPr>
          </a:p>
        </p:txBody>
      </p:sp>
      <p:sp>
        <p:nvSpPr>
          <p:cNvPr id="1043"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根据上述资料，请思考权益结合法与购买法的区别，以及两种会计处理方式带来的经济后果的差异。对同一控制下的企业合并，你认为选择哪种会计处理方法更合理？</a:t>
            </a:r>
            <a:endParaRPr b="0" lang="en-US" sz="1200" spc="-1" strike="noStrike">
              <a:solidFill>
                <a:srgbClr val="262626"/>
              </a:solidFill>
              <a:latin typeface="Arial"/>
            </a:endParaRPr>
          </a:p>
        </p:txBody>
      </p:sp>
      <p:sp>
        <p:nvSpPr>
          <p:cNvPr id="104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3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非同一控制下企业合并采用购买法处理，由于在编制购并日合并财务报表时只涉及到股权的取得，不存在集团内部交易，因此母公司只编制购并日的合并资产负债表，不需要编制合并利润表和合并现金流量表。在购并日编制合并资产负债表时，先要统一子公司的会计政策和会计期间，使子公司与母公司的会计政策和会计期间保持一致。然后确认子公司在购并日净资产的公允价值。最后编制相关的抵销分录，消除母子公司之间重复计算的部分。由于是购并日企业合并初期，因此抵销分录也比较简单，主要涉及的是长期股权投资与净资产之间的抵销。</a:t>
            </a:r>
            <a:endParaRPr b="0" lang="en-US" sz="1200" spc="-1" strike="noStrike">
              <a:solidFill>
                <a:srgbClr val="26262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47"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48"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4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的企业合并和非同一控制下的企业合并的不同主要表现在两个方面：第一，在确认初始投资成本和编制合并财务报表时，非同一控制下采用购买法，是以公允价值为基础计量的，而同一控制下采用权益结合法，是以账面价值为基础计量的。第二，在购并日编制合并报表时，非同一控制下只需要编制合并资产负债表，而同一控制下需要编制三张合并报表，即合并资产负债表、合并利润表和合并现金流量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的企业合并中，合并方在合并后取得对被合并方生产经营决策的控制权，并且被合并方在企业合并后仍然继续经营，合并方在合并日涉及两个方面的问题：一是对因该项企业合并形成的对被合并方的长期股权投资的确认和计量问题；二是合并日合并财务报表的编制问题。长期股权投资的确认和计量问题在中级财务会计相关章节已经介绍，此处不再赘述，下面重点介绍合并日合并财务报表的编制。编制合并日的财务报表时，一般包括合并资产负债表、合并利润表及合并现金流量表。</a:t>
            </a: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合并日，被合并方的有关资产、负债应当以其账面价值（合并方与被合并方采用的会计政策、会计期间不同的，指按照合并方的会计政策、会计期间，对被合并方有关资产、负债经调整后的账面价值）并入合并财务报表。需要注意的是，这里的账面价值是指被合并方的资产、负债在最终控制方财务报表中的账面价值。合并方与被合并方在合并日及以前期间发生的交易，应作为内部交易进行抵消。</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企业合并的基本处理原则是视同合并后形成的报告主体在合并日及以前期间一直存在，在合并资产负债表中，对于被合并方在企业合并前实现的留存收益（盈余公积和未分配利润之和）中归属于合并方的部分，应按以下规定，自合并方的资本公积转入留存收益。</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确认形成控股合并的长期股权投资后，合并方账面资本公积（资本溢价或股本溢价）贷方余额</a:t>
            </a:r>
            <a:r>
              <a:rPr b="1" lang="zh-CN" sz="1200" spc="-1" strike="noStrike">
                <a:solidFill>
                  <a:srgbClr val="ff0000"/>
                </a:solidFill>
                <a:latin typeface="Arial"/>
              </a:rPr>
              <a:t>大于</a:t>
            </a:r>
            <a:r>
              <a:rPr b="0" lang="zh-CN" sz="1200" spc="-1" strike="noStrike">
                <a:solidFill>
                  <a:srgbClr val="000000"/>
                </a:solidFill>
                <a:latin typeface="Arial"/>
              </a:rPr>
              <a:t>被合并方在合并前实现的留存收益中归属于合并方的部分的，在合并资产负债表中，应将被合并方在合并前实现的留存收益中归属于合并方的部分自“资本公积”转入“盈余公积”和“未分配利润”。在合并工作底稿中，借记“资本公积”项目，贷记“盈余公积”和“未分配利润”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确认形成控股合并的长期股权投资后，合并方账面资本公积（资本溢价或股本溢价）贷方余额</a:t>
            </a:r>
            <a:r>
              <a:rPr b="1" lang="zh-CN" sz="1200" spc="-1" strike="noStrike">
                <a:solidFill>
                  <a:srgbClr val="ff0000"/>
                </a:solidFill>
                <a:latin typeface="Arial"/>
              </a:rPr>
              <a:t>小于</a:t>
            </a:r>
            <a:r>
              <a:rPr b="0" lang="zh-CN" sz="1200" spc="-1" strike="noStrike">
                <a:solidFill>
                  <a:srgbClr val="000000"/>
                </a:solidFill>
                <a:latin typeface="Arial"/>
              </a:rPr>
              <a:t>被合并方在合并前实现的留存收益中归属于合并方的部分的，在合并资产负债表中，应以合并方资本公积（资本溢价或股本溢价）的贷方余额为限，将被合并方在企业合并前实现的留存收益中归属于合并方的部分自“资本公积”转入“盈余公积”和“未分配利润”。在合并工作底稿中，借记“资本公积”项目，贷记“盈余公积”和“未分配利润”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7:19:53Z</dcterms:modified>
  <cp:revision>2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126D3E5A5A949DD8E22B51C7ADB0CCD_12</vt:lpwstr>
  </property>
  <property fmtid="{D5CDD505-2E9C-101B-9397-08002B2CF9AE}" pid="3" name="KSOProductBuildVer">
    <vt:lpwstr>2052-12.1.0.17147</vt:lpwstr>
  </property>
</Properties>
</file>